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4F8-DAAE-4E97-8891-5311CC50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E7C-E970-406D-9B8F-B9323ABF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4C58-C521-46C9-8BCC-6AD2485A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3AF-A989-4AC7-903E-7226FC53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D9D-CF72-4D7A-A1BE-57CB68D6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10C-1637-44D8-8FFB-596200F7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2B6-9D19-4C2F-AAEB-4CF5C895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D92-C5F9-4F19-A14F-E55452FD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F08-81D8-48B1-8F32-98367252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236-2701-492A-99F8-749CB0C4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6DE-3E47-4C3A-AB1F-C06CA560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CC4-1673-487B-8780-5DEFBF6E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F215-1280-436D-AC67-7CA95D50C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rpd.ucf.edu/newsletter/industrial.jpg&amp;imgrefurl=http://www.forpd.ucf.edu/newsletter/FLN200610.html&amp;h=757&amp;w=1045&amp;sz=120&amp;hl=en&amp;start=9&amp;um=1&amp;tbnid=DMBcEt14dFn68M:&amp;tbnh=109&amp;tbnw=150&amp;prev=/images%3Fq%3DIndustrial%2BRevolution%26svnum%3D10%26um%3D1%26hl%3Den%26rls%3DADBS,ADBS:2007-25,ADBS: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The Industri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ction to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 Revolu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Gov't Investigation and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Factory Act 1833 - limited the hours and ages of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al Mines Regulation Act 1842 - banned the use of women and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Labou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ganized strikes to protest work condition and w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s were illegal until the latter part of the 19th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 The actions of workers almost always led to viol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31244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 Chartis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wanted to create a charter to protect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versal suffrage for all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Guarantee of certain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Paid politicians: means an average person who is committed would become a politician because by being paid they could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 Luddit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ed the teachings of "Ned Ludd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lieved machines were doing the work of men, and that men had the right to destroy the machines to save their job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uddites broke into many factories and smashed water fram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Luddites were hunted down and execu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uddites were seen as people who wanted to go backward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uddites feared the machines would start to take ov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Arial"/>
              </a:rPr>
              <a:t>Utopian Philoso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Louis Blanc - idolized the socialist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obert Owen - New Lanark/New Harm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2467080" cy="275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2114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ricultur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/Pair/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:  What were key points concerning the Agricultural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as Britain fir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re the Enclosure Acts and why were they signific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30920" y="4343400"/>
            <a:ext cx="1990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6480"/>
            <a:ext cx="685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ree Stages of the Industrial R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chanization - 1750 - 1920 - Introduction of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2) Mass Production - 1920 - Ordering of machines.  Goods moved on an assembly line.  Henry Ford got credit for this method of production that increases quantity and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3) Automation - replacing workers with machines, they tried to get rid of people completely to increase quality.  The use of robots and computers ar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4) De-industrialization - not sure if this stage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828800"/>
            <a:ext cx="4952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Mass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8381880" cy="2533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705120" cy="256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5434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to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2054520" cy="219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3809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De-industr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38280" y="1676520"/>
            <a:ext cx="518184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Problems of the Industrial Revol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Unemploy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machines took away traditional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ove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wage labour was cheap.  People basically worked for nothing.  There was always someone else to take your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orking Condit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were very bad, low hours, hard work, and dangerous work.  No social programs at all.  14 - 18 hours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Continu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hild Labo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children as young as six were employed in sweat shops and mines.  Seen as small adults their developmental needs were ignored, and they were often physically and sexually ab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Urban Growth/Slu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The rapid growth of cities created huge slum areas where living conditions were extremely unsanitary and dangerous.  Violence and substance abuse were major social problems - Crime!! Crim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Rapid Population Grow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advances in medicine/science led to a drop in the death rate especially among children.  The result was a huge population explo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8:34:04Z</dcterms:created>
  <dc:creator>Ecole Plamondon School</dc:creator>
  <dc:description/>
  <dc:language>en-US</dc:language>
  <cp:lastModifiedBy>ripkensa</cp:lastModifiedBy>
  <dcterms:modified xsi:type="dcterms:W3CDTF">2010-01-20T21:46:05Z</dcterms:modified>
  <cp:revision>4</cp:revision>
  <dc:subject/>
  <dc:title>Slide 1</dc:title>
</cp:coreProperties>
</file>